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83B-0CA3-406F-9B35-3500B74B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8C3-8820-4BE9-A3F4-2549CF99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BA0-2EB4-477D-ABDA-32C93D18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86D-61DE-4A47-BB2B-7345CC73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855-3B09-44FC-A35E-1E8F9C90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729-A1CC-449C-B157-1EE66A7D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80C-2318-4B50-AB2D-40686782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304-536D-4E70-971B-80E10DA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96D-9C1E-4ACE-936D-7FBDE09C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741-BA86-43B2-84E4-72F6FFF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14A-E37E-4F1F-905D-2DC1DF4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892-2355-410E-8FDE-6E0BF86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9E5-7B0F-43B7-9444-3CD70A506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vember 29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B14-8AF0-485A-8AFC-257AFC8CDC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ata Extract Working Group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DEW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ttention is focused on recent extract issues occurring on 10/31 and 11/01 activity that has followed si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xperienced another incident of missing data from key data extracts and a Re-settlement of an Initial State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cerns over basic controls that should identify major issues in extract completenes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WG Ch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ceived complaints on 48-hour timeliness and notification process; however, ERCOT was within the 48-hr timing window (DEWG will be reviewing market expectations and protocol/market guide references on timeli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munications issues, the timing of market notices to the events, and the detail provided, are concerns being discu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Requested ERCOT staff to clearly identify root cause of extract posting issues and advise of any corrective action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44E-788D-4BC0-828C-9E94D90AEA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ttlements and Data Acquisition Working Group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(SDAWG)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Nodal Impac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with ERCOT Staff Verifiable Cost Manual and issues related to non-fuel startup resulting from a RUC deploy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has prepared a list of issues/questions for WMS to consi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F68-B89D-4833-AB44-AA177F20A2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file Working Group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(PWG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mand Response Update (COPS &amp; RM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PS &amp; RMS have jointly formed a DR Task Force to build requirements for DR Programs  &amp; Report to COPS &amp; RMS by Feb. 2008 or sooner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ennifer Garcia, Direct Energy -Task For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athy Scott, CenterPoint Energy – Task Force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COT Staff to assemble a list of discussion items and questions for the Task Force on DR Program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rst meeting of the DRTF was held Tuesday, November 27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0DA-642B-4A3A-905B-1958B25EE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Voting Item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WG submitted to COPS and COPS recommends to TAC approva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PGRR0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ad Profiling Guide cleanup, Corrections and 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99"/>
                </a:solidFill>
                <a:uFillTx/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25-049/028/index.htm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B2C-3189-4971-B55F-EAE06A66DD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2C0-1B6E-4340-9522-D7CC30791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1-19T19:35:51Z</dcterms:modified>
  <cp:revision>239</cp:revision>
  <dc:subject/>
  <dc:title>Point-to-Point</dc:title>
</cp:coreProperties>
</file>